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D416-685A-44B3-B9BC-13FB68CA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5627-910F-4B8F-A79A-3376BAB7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5611-43C5-4CB2-A750-92D695F8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80F3-9923-4A09-B0DD-60B4DD69F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D412-0084-431A-96FA-63196F5A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07B1-F24F-4EFE-9356-BBFE6678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8062-828C-4FF4-AA6D-118B77A5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29A3-45CE-4281-8EBF-20252767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42BE-95FC-46C7-AE1A-B841BD0C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BCB0-3690-45DD-8317-EBCACF12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FF45-761B-48F8-BC82-8AD423DF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790A-062A-4A1E-87BD-C8437729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8C53-BD07-4824-B6BC-D40AB4569A4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Sequential Link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First Link to slide 3 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his one to slide 4 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nd this to slide 5 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Action Button: Back or Previous 3">
            <a:hlinkClick r:id="" action="ppaction://hlinkshowjump?jump=previousslide"/>
          </p:cNvPr>
          <p:cNvSpPr/>
          <p:nvPr/>
        </p:nvSpPr>
        <p:spPr>
          <a:xfrm>
            <a:off x="7572240" y="621504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10800"/>
                </a:moveTo>
                <a:lnTo>
                  <a:pt x="26794" y="3794"/>
                </a:lnTo>
                <a:lnTo>
                  <a:pt x="26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Slide 4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Action Button: Back or Previous 3">
            <a:hlinkClick r:id="" action="ppaction://hlinkshowjump?jump=previousslide"/>
          </p:cNvPr>
          <p:cNvSpPr/>
          <p:nvPr/>
        </p:nvSpPr>
        <p:spPr>
          <a:xfrm>
            <a:off x="7572240" y="621504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10800"/>
                </a:moveTo>
                <a:lnTo>
                  <a:pt x="26794" y="3794"/>
                </a:lnTo>
                <a:lnTo>
                  <a:pt x="26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Slide 5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Action Button: Back or Previous 3">
            <a:hlinkClick r:id="" action="ppaction://hlinkshowjump?jump=previousslide"/>
          </p:cNvPr>
          <p:cNvSpPr/>
          <p:nvPr/>
        </p:nvSpPr>
        <p:spPr>
          <a:xfrm>
            <a:off x="7572240" y="621504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10800"/>
                </a:moveTo>
                <a:lnTo>
                  <a:pt x="26794" y="3794"/>
                </a:lnTo>
                <a:lnTo>
                  <a:pt x="26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1:26:31Z</dcterms:created>
  <dc:creator>John Wilson</dc:creator>
  <dc:description/>
  <dc:language>en-US</dc:language>
  <cp:lastModifiedBy>John Wilson</cp:lastModifiedBy>
  <dcterms:modified xsi:type="dcterms:W3CDTF">2008-03-14T11:36:41Z</dcterms:modified>
  <cp:revision>2</cp:revision>
  <dc:subject/>
  <dc:title>Sequential Links</dc:title>
</cp:coreProperties>
</file>